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F6A-884E-4027-B101-B304DF05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F43-41C2-47BD-A275-55E0D505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5C5-3876-4432-ACD7-5B834309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0D3-FCAA-4234-A43C-EF152FBE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FE8-340A-41FA-B05A-D56FBE1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D0F-4CBB-462F-8805-E301D6D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CD0-989E-4340-ACBF-D923BCF2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121-9CE6-42F4-B004-AB066BC5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D0D-6DB0-40DC-B033-D33690C6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326-A2B0-419D-9E3C-71F6D24E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8A7-BF52-4C62-888E-E983D3B2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87F-4723-4516-BE35-6A181AF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1CD1-63AD-437F-8285-35BAF3FD8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0:37:47Z</dcterms:created>
  <dc:creator>VictorP</dc:creator>
  <dc:description/>
  <dc:language>en-US</dc:language>
  <cp:lastModifiedBy>VictorP</cp:lastModifiedBy>
  <dcterms:modified xsi:type="dcterms:W3CDTF">2008-01-10T00:51:28Z</dcterms:modified>
  <cp:revision>2</cp:revision>
  <dc:subject/>
  <dc:title>Diapositiva 1</dc:title>
</cp:coreProperties>
</file>